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797C-0C77-47AE-BA4F-68AC2EA802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 фото слева синими стрелками обозначены "здоровые" клетки, красными - поражённые хламидиями,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 красного круг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– ретикулярное тельце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E11F-B763-4560-A765-6E4ACECBD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A2F-F4D4-4B86-BAD5-B7E7F7F5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195E-72B8-4A6B-83CB-3A9AFC1C5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06E5-C65D-48FE-A9A6-CAB42887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4818-6ECD-49EA-A028-F8CD09170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3DEC-2E44-4EE6-A189-6CC3DBEB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8196-1524-4082-A906-99623DB4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12FC-59A9-4676-BACE-1A0249D7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FBD2-0E15-4E31-8FDA-5D1DEFCB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914B-A668-4D6B-AC89-D3B1E708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E3196-7329-44F7-8CFC-8791CF52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27D7-E1EA-440D-B30A-CD290093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68A2-2118-4239-81B8-CA8CAA33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CFFF-536C-418A-9147-53075D65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F3E3-C660-4EDF-AA4E-1DEE3C4F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49A8-4A3B-4E3E-87B3-CBE5D878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8DABF-5119-4DBE-9518-EC1A3E840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900-2874-4A09-B80C-D0D2CB7E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86B3-97C4-4456-A3DC-1640FAB5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88AF-94D8-4C79-B7C2-8513684B3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3E0B-2698-4DE3-8491-FF1EA8509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BDD-5287-49A2-BAA5-2E6F3F2A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E308-0188-4AEF-929F-7EAAF879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4A2-08C5-4DB8-9560-084C39467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4E79-A7F1-49B7-BCC3-144FAD8EF36E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4213080" y="6453360"/>
            <a:ext cx="493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©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ГНЦ Институт Иммунологии МЗ РФ 200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2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F0A8-616E-443D-81B1-FDFC411C2608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Инфекции, передающиеся половым путем</a:t>
            </a:r>
            <a:br>
              <a:rPr sz="44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Шульженко А. Е.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ГНЦ Институт Иммунологии МЗ РФ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Хламидио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реамикоплазмо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рихомониа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Гарднерелле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рогенитальный кандидо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Генитальный герпе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ческие проявле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нкубационный период длительный (50-60 дней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Заболевание не имеет специфических способностей, начинается с проявлений уретрита (жжение и зуд при мочеиспускании, выделения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Симптоматика может варьировать от ярко выраженной до почти полного отсутствия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У мужчин проявляется в виде уретрита, простатита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У женщин может являться причиной воспалительных заболеваний органов малого таза, патологии беременности, плода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иагностическим критерием является выявление возбудителя  методами культурального исследования, полимеразной цепной реакци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Назначение терапии при клинических проявлениях инфекционно-воспалительных процессах мочеполовых органов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Лечение проводится антибактериальными препаратами в среднем в течение 2 недель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Подбор препаратов в соответствии с антибиотикочувствительностью штамма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Контрольное обследование через 2-3 недели спустя завершения курса терапии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Трихомониаз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дно из наиболее распостраненных заболеваний мочеполового тракта (170 млн. человек в 1995г.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ражение происходит половым путем при контакте с больным или носителем инфекци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Заболевание вызывается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остейшими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ида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  <a:ea typeface="Arial"/>
              </a:rPr>
              <a:t> Trichomonas vaginalis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richomonas vaginali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66720" y="1828440"/>
            <a:ext cx="4876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жгутиковое простейшее рода трихомонад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обитает только в мочеполовой системе человек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 женщин - во влагалище, уретре, у мужчин – в мочеиспускательном канале, предстательной железе, семенных пузырьках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вне человеческого организма быстро теряет жизнеспособность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701720" y="1469880"/>
            <a:ext cx="5742000" cy="1428840"/>
            <a:chOff x="1701720" y="1469880"/>
            <a:chExt cx="5742000" cy="1428840"/>
          </a:xfrm>
        </p:grpSpPr>
        <p:sp>
          <p:nvSpPr>
            <p:cNvPr id="151" name=""/>
            <p:cNvSpPr/>
            <p:nvPr/>
          </p:nvSpPr>
          <p:spPr>
            <a:xfrm>
              <a:off x="1701720" y="1469880"/>
              <a:ext cx="574200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1701720" y="1469880"/>
              <a:ext cx="5742000" cy="1428840"/>
              <a:chOff x="1701720" y="1469880"/>
              <a:chExt cx="5742000" cy="1428840"/>
            </a:xfrm>
          </p:grpSpPr>
          <p:sp>
            <p:nvSpPr>
              <p:cNvPr id="153" name=""/>
              <p:cNvSpPr/>
              <p:nvPr/>
            </p:nvSpPr>
            <p:spPr>
              <a:xfrm>
                <a:off x="1701720" y="1469880"/>
                <a:ext cx="5742000" cy="14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01720" y="1469880"/>
                <a:ext cx="574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5" name="" descr="Трихомонада,Trichomonas vaginalis. х 1600"/>
          <p:cNvPicPr/>
          <p:nvPr/>
        </p:nvPicPr>
        <p:blipFill>
          <a:blip r:embed="rId1"/>
          <a:stretch/>
        </p:blipFill>
        <p:spPr>
          <a:xfrm>
            <a:off x="380880" y="1981080"/>
            <a:ext cx="381024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ческие проявле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нкубационный период в среднем 5-15 дней (от 2 дней до 1 месяца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Заболевание начинается с уретрита у мужчин и вагинита и уретрита у женщин: характерны жжение и болезненность при мочеиспускании, мутные серовато-желтые выделения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При отсутствии лечения переходит в хроническую форму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Могут развиваться осложнения в виде восходящей инфекции мочевыводящих путей и почек (цистит, пиелит, пиелонефрит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иагноз урогенитального трихомониаза устанавливается при обязательном обнаружении Тrichomonas vaginalis путем лабораторного исследова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ля диагностики применяется следующие методы: микроскопия мазка из уретры, посевы на питательную среду, метод латекс-агглютинаци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Лечение подлежат все пациенты,  у которых обнаружена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richomonas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vaginalis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, а также пациенты с воспалительными процессами, у которых трихомонады не обнаружены, но выявлены у их половых партнеро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ерапия проводится противопротозойными препаратами в среднем в течение 10 дне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нтрольное обследование проводят на 7-10 день после окончания леч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Гарднереллез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арднереллез является частным случаем дисбактериоза влагалища (бактериальный вагиноз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озникает при частной смене половых партнеро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Мужчины часто являются носителями гарднерелл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традают более 20% женщин детородного возраст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Часто смешанное инфицирование гарднереллой с гонококками, трихомонадами, хламидиями, микоплазмо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imes New Roman"/>
              </a:rPr>
              <a:t>Gardnerella vaginalis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5" name="" descr="Гарднереллы (Gardnerella vaginalis) на поверхности ключевых клеток"/>
          <p:cNvPicPr/>
          <p:nvPr/>
        </p:nvPicPr>
        <p:blipFill>
          <a:blip r:embed="rId1"/>
          <a:stretch/>
        </p:blipFill>
        <p:spPr>
          <a:xfrm>
            <a:off x="685800" y="1447920"/>
            <a:ext cx="3200400" cy="35049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Норамальная микрофлора влагалища"/>
          <p:cNvPicPr/>
          <p:nvPr/>
        </p:nvPicPr>
        <p:blipFill>
          <a:blip r:embed="rId2"/>
          <a:stretch/>
        </p:blipFill>
        <p:spPr>
          <a:xfrm>
            <a:off x="4724280" y="1523880"/>
            <a:ext cx="3672000" cy="3429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59960" y="53341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Gardnerella vaginal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31120" y="5105520"/>
            <a:ext cx="374832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Для сравнения -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нормальная микрофлор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влагалищ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Урогенитальный хламидиоз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Одна из самых распространенных ИППП (ежегодно заболевает 89 млн. человек в мире)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Часто протекает мало- или бессимптомно, что представляет наибольшую угрозу в связи поздней диагностикой и несвоевременным назначением лечения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Является одной из основных причин развития вторичного бесплодия у женщин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нфицируются 50-60% детей, рожденных  от матерей с активной инфекцией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ческие проявле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бильные кремообразные влагалищные выделения серовато-белого цвет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неприятный (рыбный) запах выделени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изнаки воспаления влагалища у половины пациенток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 50% пациенток присутствуют зуд и жжени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Осложнения бактериального вагино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ецидивирующие воспалительные заболевания мочеполовой систем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атологические маточные кровотеч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сложнения после операций на органах малого таза и кесаревого сеч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ослеродовый эндометри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еждевременный разрыв плодных оболочек при родах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снижение веса и пневмония у новорожденног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Диагностические критерии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гомогенные кремообразные влагалищные выделения, имеющие рыбный запах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Н влагалищного отделяемого &gt; 4,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бнаружение в мазке ключевых клеток (эпителиальные клетки, к которым прикрепляются гарднереллы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spcAft>
                <a:spcPts val="499"/>
              </a:spcAft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аминовый тест: возникновение рыбного запаха при добавлении к выделениями 5% гидроокси калия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ерапия антибактериальными препаратами с учетом чувствительности возбудител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ффективность лечения оценивается по исчезновению клинических симптомов, нормализации лабораторных показателе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онтрольное обследование через 1 неделю после завершения терапии и через 4-6 недель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Урогенитальный кандидоз (молочница)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imes New Roman"/>
              </a:rPr>
              <a:t>Вызвана дрожжеподобными грибами рода </a:t>
            </a: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dida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imes New Roman"/>
              </a:rPr>
              <a:t>широко распространены -  75% женщин переносят в течение жизни по крайней мере 1 эпизод молочницы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imes New Roman"/>
              </a:rPr>
              <a:t>попадает в мочеполовые пути при половом контакте, иногда вместе с другими возбудителями (хламидиями, уреаплазмами, вирусами)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Times New Roman"/>
              </a:rPr>
              <a:t>протекают хронически, склонны к рецидивам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andida albican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8620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тносится к условно-патогенным микроорганизма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развиваются на слизистых оболочках и коже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аиболее благоприятная температура 21-37°С, оптимальная рН 5,8-6,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29718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00"/>
                </a:solidFill>
                <a:latin typeface="Times New Roman"/>
              </a:rPr>
              <a:t>Факторы, способствующие развитию урогенитального кандидоза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сновным фактором является ослабление иммунной системы в результате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Терапии антибиотиками, кортикостероидами, цитостатиками, применения гормональных контрацептиво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Эндокринных заболеваний (сахарный диабет, гипотиреоз, полиэндокринопатия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Оперативные вмешательств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Font typeface="Times New Roman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Физиологического состояния организма (пожилой возраст, беременность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 женщин наиболее часто процесс локализуется в области наружных половых органов и влагалища и характеризуется следующими симптомами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творожистых выделения белого цвета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зуд, жжение в области наружных половых органо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силение зуда в тепле (после сна или после ванны), после полового акт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У мужчин поражаются головка полового члена и внутренний листок крайней плоти и сопровождаютс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бело-серым налетом, зудом и жжением в области поражения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андидоносительство (при отсутствии клинических проявлений и обнаружении грибов рода Candida при обследовании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линическое проявление заболевани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Микроскопическое выявление грибов рода Candi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урогенитальный кандидоз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Только микросопическое выявление грибов рода Candida (без клинических проявлений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андидоносительств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91120" y="2514600"/>
            <a:ext cx="0" cy="685800"/>
          </a:xfrm>
          <a:prstGeom prst="line">
            <a:avLst/>
          </a:prstGeom>
          <a:ln w="604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67080" y="5486400"/>
            <a:ext cx="0" cy="685800"/>
          </a:xfrm>
          <a:prstGeom prst="line">
            <a:avLst/>
          </a:prstGeom>
          <a:ln w="604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Препаратами противогрибковой групп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иквидация предрасполагающих факторов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ечение сопутствующих заболевани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hlamydia trachomati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819520" cy="4114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04960" y="1676520"/>
            <a:ext cx="5638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Являются внутриклеточным паразитом, имеющим две формы существования - элементарные тельца (внеклеточная форма) и ретикулярные тельца (внутриклеточная форма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поражаются органы, покрытые призматическим эпителием (слизистая оболочка уретры, канала шейки матки, маточные трубы, прямая кишка, конъюнктива глаза и глотка)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46080" y="635040"/>
            <a:ext cx="5742000" cy="1428840"/>
            <a:chOff x="46080" y="635040"/>
            <a:chExt cx="5742000" cy="1428840"/>
          </a:xfrm>
        </p:grpSpPr>
        <p:sp>
          <p:nvSpPr>
            <p:cNvPr id="115" name=""/>
            <p:cNvSpPr/>
            <p:nvPr/>
          </p:nvSpPr>
          <p:spPr>
            <a:xfrm>
              <a:off x="46080" y="635040"/>
              <a:ext cx="5742000" cy="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46080" y="635040"/>
              <a:ext cx="5742000" cy="1428840"/>
              <a:chOff x="46080" y="635040"/>
              <a:chExt cx="5742000" cy="1428840"/>
            </a:xfrm>
          </p:grpSpPr>
          <p:sp>
            <p:nvSpPr>
              <p:cNvPr id="117" name=""/>
              <p:cNvSpPr/>
              <p:nvPr/>
            </p:nvSpPr>
            <p:spPr>
              <a:xfrm>
                <a:off x="46080" y="635040"/>
                <a:ext cx="5742000" cy="142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080" y="635040"/>
                <a:ext cx="5742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136440" y="2073240"/>
            <a:ext cx="8961480" cy="4024440"/>
            <a:chOff x="136440" y="2073240"/>
            <a:chExt cx="8961480" cy="4024440"/>
          </a:xfrm>
        </p:grpSpPr>
        <p:grpSp>
          <p:nvGrpSpPr>
            <p:cNvPr id="120" name=""/>
            <p:cNvGrpSpPr/>
            <p:nvPr/>
          </p:nvGrpSpPr>
          <p:grpSpPr>
            <a:xfrm>
              <a:off x="136440" y="2073240"/>
              <a:ext cx="8961480" cy="4024440"/>
              <a:chOff x="136440" y="2073240"/>
              <a:chExt cx="8961480" cy="4024440"/>
            </a:xfrm>
          </p:grpSpPr>
          <p:grpSp>
            <p:nvGrpSpPr>
              <p:cNvPr id="121" name=""/>
              <p:cNvGrpSpPr/>
              <p:nvPr/>
            </p:nvGrpSpPr>
            <p:grpSpPr>
              <a:xfrm>
                <a:off x="136440" y="2073240"/>
                <a:ext cx="8961480" cy="4024440"/>
                <a:chOff x="136440" y="2073240"/>
                <a:chExt cx="8961480" cy="40244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136440" y="2073240"/>
                  <a:ext cx="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36440" y="2073240"/>
                  <a:ext cx="8961480" cy="402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  </a:t>
                  </a:r>
                  <a:r>
                    <a:rPr b="0" lang="en-US" sz="25800" spc="-1" strike="noStrike">
                      <a:solidFill>
                        <a:srgbClr val="ffffcc"/>
                      </a:solidFill>
                      <a:latin typeface="Times New Roman"/>
                    </a:rPr>
                    <a:t> </a:t>
                  </a:r>
                  <a:r>
                    <a:rPr b="0" lang="en-US" sz="1200" spc="-1" strike="noStrike">
                      <a:solidFill>
                        <a:srgbClr val="ffffcc"/>
                      </a:solidFill>
                      <a:latin typeface="Times New Roman"/>
                    </a:rPr>
                    <a:t>                                                     </a:t>
                  </a:r>
                  <a:endParaRPr b="0" lang="en-US" sz="12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4" name=""/>
              <p:cNvSpPr/>
              <p:nvPr/>
            </p:nvSpPr>
            <p:spPr>
              <a:xfrm>
                <a:off x="136440" y="2073240"/>
                <a:ext cx="8961480" cy="4024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136440" y="2073240"/>
              <a:ext cx="8961480" cy="4024440"/>
            </a:xfrm>
            <a:prstGeom prst="rect">
              <a:avLst/>
            </a:prstGeom>
            <a:noFill/>
            <a:ln w="0">
              <a:solidFill>
                <a:srgbClr val="11111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26" name="" descr="Хламидия, Chlamydia trachomatis"/>
          <p:cNvPicPr/>
          <p:nvPr/>
        </p:nvPicPr>
        <p:blipFill>
          <a:blip r:embed="rId2"/>
          <a:stretch/>
        </p:blipFill>
        <p:spPr>
          <a:xfrm>
            <a:off x="685800" y="1828800"/>
            <a:ext cx="28195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линические проявлени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Инкубационный период - 5-30 дней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Не имеет специфических симптомов, обычно протекает малосимптомно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У мужчин чаще всего поражается слизистая мочеиспускательного канала, прямой кишки, придатки яичек, предстательная железа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У женщин поражается шейка матки, осложнениями являютс сальпингит, сальпингоофорит, а также перигепатит, периаппендицит, пельвиоперитонит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При системном поражении - болезнь Рейтера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Диагностика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Диагностическим критерием является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Выявление хламидий с помощью полимеразной цепной реакции Выявление хламидий  культуральным методом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Выявление  хламидий методом прямой иммунофлюоресценци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Лече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Лечение антибактериальными препаратами с учетом чувствительности в течение 14-21 дне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Контрольное обследование спустя 3-4 недели после завершения лечени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Критерии излеченности хламидиоз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Исчезновение клинических симптомов заболевани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Отсутствие возбудителя при лабораторном обследовании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Times New Roman"/>
              </a:rPr>
              <a:t>Уреамикоплазмоз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Широко распространен среди разных групп населени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К группе повышенного риска относятся все женщины детородного возраста, страдающие хроническими воспалительными заболеваниями урогенитального тракта неясной этиологии, а также беременные женщины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Вызывается возбудителями семейства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ycoplasmataceae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Arial"/>
              </a:rPr>
              <a:t> - Ureaplasma urealiticum,  Micoplasma hominis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Micoplasma genitaliu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imes New Roman"/>
              </a:rPr>
              <a:t>Mycoplasma hominis, Mycoplasma genitalium, Ureaplasma urealyticum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621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Способны встраивать в свою оболочку антигены лимфоцитов человека (мимикрия)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Могут прикрепляться к сперматозоидам, превращая их в носители микоплазм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cc"/>
                </a:solidFill>
                <a:latin typeface="Times New Roman"/>
              </a:rPr>
              <a:t>Размножение микоплазм может стимулироваться эстрогенами (при беременности) 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12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4T03:39:58Z</dcterms:created>
  <dc:creator>Igor</dc:creator>
  <dc:description/>
  <dc:language>en-US</dc:language>
  <cp:lastModifiedBy>Иван Кокоткин</cp:lastModifiedBy>
  <dcterms:modified xsi:type="dcterms:W3CDTF">2003-04-27T07:19:29Z</dcterms:modified>
  <cp:revision>48</cp:revision>
  <dc:subject/>
  <dc:title>Урогенитальный хламидиоз</dc:title>
</cp:coreProperties>
</file>