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49D6-646C-44A1-95BC-E0427AE4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DCDC-3607-4762-9E53-7BD8CA10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9CD6-336B-4B85-9A9B-EDF29972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A83C-F693-44D6-895B-72AA36835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14A3-D16E-4425-AEC5-0D6F42C2D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36DC-CDA1-4D50-981E-403E2C6F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9039-8C91-4B5A-BF41-DC2B10B9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2B46-B957-4C75-8942-00F87E17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92AD-4BC4-4263-8344-FB303347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1C6D-0267-44F0-894E-493CF3AF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8FEA-3155-4E6D-BDFC-E83710E3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3168-91F4-45A8-AA5C-A22C918B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0F43-350D-4978-879F-DC276ECA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A943-74F0-4F1C-9720-6F4B25C8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21B2-BC75-4AEB-A7ED-09949478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9267-9582-41FF-955A-8A6E0147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BFAF-48EA-42CE-B361-5029D16E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C742-8FFF-4012-876C-102CDFAC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0BFC-C1EF-4A72-86CB-2C962E69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7EBD-60D6-4E2E-B8BE-BF051A6A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D4ED-3681-43EF-9254-2DC056D0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868A-E53B-4435-B7AB-0E102AD9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6F5A-4124-45B0-AD16-93F38F45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4264-6EA2-4406-AC41-1FD46A5E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AEA1-A634-4CF1-A69F-37E50A661A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523120" y="6416640"/>
            <a:ext cx="29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2003 Иван Кокот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E9B9-A4AE-4974-9808-F913156A7F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23120" y="6416640"/>
            <a:ext cx="29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2003 Иван Кокот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История изучения генитального герпес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92000" y="3429000"/>
            <a:ext cx="7070760" cy="19447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39"/>
                </a:solidFill>
                <a:latin typeface="Arial"/>
              </a:rPr>
              <a:t>Кокоткин Иван Юр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39"/>
                </a:solidFill>
                <a:latin typeface="Arial"/>
              </a:rPr>
              <a:t>врач акушер-гинеко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39"/>
                </a:solidFill>
                <a:latin typeface="Arial"/>
              </a:rPr>
              <a:t>Кафедра Акушерства и Гинекологии №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39"/>
                </a:solidFill>
                <a:latin typeface="Arial"/>
              </a:rPr>
              <a:t>ММА им. И. М. Сече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23120" y="6416640"/>
            <a:ext cx="29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2003 Иван Кокот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Она изобрела ацикловир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195640" y="1599840"/>
            <a:ext cx="2736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лась в семье эмигрантов в Нью-Йор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ь русская, отец литов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вязи со смертью дедушки от рака решила изобрести лекарство, излечивающее болез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977 году совместно с Джорджем Хитчингсом и Джеймсом Блэком изобрела ациклов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003640" y="1649520"/>
            <a:ext cx="4067280" cy="29318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579640" y="4959360"/>
            <a:ext cx="308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ртруда Бэлл Элайон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918 - 1999 г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Российские научные учреждения, изучающие герпес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ИИ вирусологии им. Д. И. Ивановского РАМ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НЦ Институт Иммунологии МЗ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федра кожных болезней ММА им. И. М. Сечен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федра акушерства и гинекологии № 1ММА им. И. М. Сечен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Ключевые этапы в изучении герпе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писательный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00 лет до нашей эры д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00 года нашей э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кспериментальный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73-19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деление вирусов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12-19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учение свойств вирусов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963-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23120" y="6416640"/>
            <a:ext cx="29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2003 Иван Кокот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Термин «Герпес»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84000" y="1196640"/>
            <a:ext cx="3124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ин «Герпес» был введен более чем 2 500 лет назад древнегреческим ученым Гиппокра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рпе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pe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древнегреческого ползучий, подкрадывающий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ппократ впервые описал проявления боле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читалось, что герпес является косметическим дефек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я заболевания неточ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248520" y="1916280"/>
            <a:ext cx="2427120" cy="2157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796000" y="4437000"/>
            <a:ext cx="303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ревнегреческий вр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ИППОКРАТ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460-377 до н.э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23120" y="6416640"/>
            <a:ext cx="29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2003 Иван Кокот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Описательный этап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рпес описан в работах Галена, Авиценны, Герод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име в эпоху императора Тиберия запрещены публичные поцелуи с целью предотвращения распространения герпеса г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700 году французский врач Мортон подробно описал проявления герп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нц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а Тюрнер дал первую классификацию герпеса в зависимости от расположения высыпа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23120" y="6416640"/>
            <a:ext cx="29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2003 Иван Кокот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Болезнь французских королей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15000" y="1599840"/>
            <a:ext cx="3124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дови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V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Людови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V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дали герпес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е жестокие законы были приняты в момент обострения генитального герп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агодаря разврату, царившему при дворе Людовиков, большинство придворных страдало герпе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пидемия герпеса охватила французских проститу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 rot="21229200">
            <a:off x="2484000" y="1125360"/>
            <a:ext cx="285912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Экспериментальный этап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341360"/>
            <a:ext cx="6400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ремя экспериментального этапа герпесом было принято заражать добровольцев, чтобы изучать закономерности заболе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тор Видаль заражал одного человека, чтобы посмотреть, как герпес будет передаваться друг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81 году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ъезде американской ассоциации дерматовенерологов герпес впервые относят к венерической боле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12 году немец Грютер увидел клеточные включения содержащие вирус простого герп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Грютер увидел герпес…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646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12 году, ровно через 20 лет  после того как россиянин Дмитрий Ивановский открыл вирусы немец В . Грютер увидел под микроскопом клеточные включения, содержащие ВПГ, в жидкости из герпетического пузырь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300720" y="2871720"/>
            <a:ext cx="2016360" cy="20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Они первыми увидели вирус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а Ивановна Козлова  акушер - гинеко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ександр Федорович Пухнер -научный сотрудник в институте полиомиелита и вирусных энцефалитов РАМ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484360" y="2421000"/>
            <a:ext cx="310032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Таким вирус герпеса впервые предстал людям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первые человечество увидело вирус герпеса в 1963 г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нная фотография вируса была сделана советским ученым Александром Пухнером, он же при помощи электронной микровскопии изучил цикл размножения вир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24360" y="2205000"/>
            <a:ext cx="3348360" cy="2246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606640" y="4889520"/>
            <a:ext cx="343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лектронная фотограф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ПГ-2. Увеличение Х 40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4T04:01:22Z</dcterms:created>
  <dc:creator>Иван Кокоткин</dc:creator>
  <dc:description/>
  <dc:language>en-US</dc:language>
  <cp:lastModifiedBy>Иван Кокоткин</cp:lastModifiedBy>
  <dcterms:modified xsi:type="dcterms:W3CDTF">2003-04-27T07:25:21Z</dcterms:modified>
  <cp:revision>7</cp:revision>
  <dc:subject/>
  <dc:title>Генитальный герпес-  история</dc:title>
</cp:coreProperties>
</file>