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BF46-377A-494C-9C30-3A5FC1F4F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74A5-BD1F-461B-BD26-A8B00267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8CB1-E46A-4AF7-9BF9-71BA987DF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E22D-FABF-4EDB-B41C-2668A44F2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693B9C-AB67-4176-BDA2-387E0A91B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5B0F4-73EA-4CCC-A735-71A2B7E1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2FD963-7C11-46D6-AABE-1FBD4D1F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3C2EF-BF1D-4641-A083-041121FA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D39D0-5B24-4AA9-9C3D-611EF103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61DC6B-8D96-4355-B19C-E52CB291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FD4AC7-CC64-463D-AE87-6FCB0100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59CF-E6C3-43F5-9785-665D2A49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BC9C99-BA85-458E-88CF-E42CF481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F8FC8C-7080-4D80-BDE0-0BF964C6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43265-AD7A-4067-980F-F153BFC4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C238F-B064-4A04-84E9-AC0575FF0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CE318-3FFE-475D-8E04-AEB29E3B5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C39A-0351-4B12-8D88-4FF477CD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AC62-B8AD-4D74-902B-8AD2ED3E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9CC7-D0E0-4392-B6C2-B091D1A64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A170-8078-4D96-B3F0-14060462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D256-8751-4B2D-907B-10E89554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7366-6E18-466C-96E0-94D27432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1976-15AD-4AE9-B3D2-68D8090F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CD86-BE53-4A33-AB46-C138ABE0F45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436440" y="6230880"/>
            <a:ext cx="27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©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Иван Кокоткин 200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130D-9E34-4FED-82A3-F3FEEC87DFB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893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3e3ff"/>
                </a:solidFill>
                <a:latin typeface="Arial"/>
              </a:rPr>
              <a:t>Генитальный Герпес </a:t>
            </a:r>
            <a:br>
              <a:rPr sz="6000"/>
            </a:b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современные методы лечения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633760" y="3284280"/>
            <a:ext cx="633096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коткин Иван Юрьеви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рач акушер – гинеколог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МА им. Сеченова И. 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федра Акушерства и Гинекологии №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36440" y="6230880"/>
            <a:ext cx="27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©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Иван Кокоткин 200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3e3ff"/>
                </a:solidFill>
                <a:latin typeface="Arial"/>
              </a:rPr>
              <a:t>ТЕРАПИЯ, ПОДАВЛЯЮЩАЯ  ГЕНИТАЛЬНЫЙ ГЕРПЕС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384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5b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отвращение рецидивов в будущ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5b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начительное увеличение межрецидивных промежутков, основанное на длительном постоянном приеме препара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5b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нижение заразности для окружающи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15b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лучшение качества жизни пациентов с частыми рецидивами генитального герпес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ече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5b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цикловир 400 мг х 2 р/сутки х 6-12 ме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5b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лтрекс 500 мг х 1-2 р/сутки х 6-12 ме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5b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амви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250  мг х 2 р/сутки х 6-12 ме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ЭФФЕКТИВНОСТЬ СУПРЕССИВНОЙ ТЕРАПИИ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181480" y="1599840"/>
            <a:ext cx="3810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пресивная терапия в течение 1 года препаратом Фамвир снижает количество рецидивов в 2 раз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208160" y="1600200"/>
          <a:ext cx="37926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8160" y="1600200"/>
                    <a:ext cx="3792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ПОЛОВОЕ ПОВЕДЕНИЕ БОЛЬНЫХ С ГЕРПЕСОМ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09760" y="18680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иск  заражения ВИЧ - инфекцией человека с генитальным герпесом в 7 раз выше по сравнению со здоровыми людь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 случайных контактах нужно обязательно использовать презервати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09480" y="1916280"/>
            <a:ext cx="4033800" cy="35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e3ff"/>
                </a:solidFill>
                <a:latin typeface="Arial"/>
              </a:rPr>
              <a:t>ВИДЫ ЛЕЧЕНИЯ ГЕНИТАЛЬНОГО ГЕРПЕСА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2565000"/>
            <a:ext cx="8748720" cy="32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Лечения первого в жизни рецидив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Лечение рецидивов генитального герпес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одавляющая герпес или супрессивная терапия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36440" y="6230880"/>
            <a:ext cx="272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©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Иван Кокоткин 200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ПРЕПАРАТЫ ДЛЯ ЛЕЧЕНИЯ ГЕНИТАЛЬНОГО ГЕРПЕС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2361960"/>
            <a:ext cx="449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циклические нуклеози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ммуномодулятор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ексозные гликози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653000" y="1996920"/>
            <a:ext cx="403380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АЦИКЛИЧЕСКИЕ НУКЛЕОЗИДЫ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уппа лекарственных средств, блокирующих размножение ВПГ I и I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уклеозиды целенаправленно воздействуют на процесс размножения вируса, проникая только в пораженную клетку и не затрагивая здорову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мер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циклови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лпизар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онафт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оссипо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зоприноз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ксолиновая маз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елеп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лакози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Фоскарн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3e3ff"/>
                </a:solidFill>
                <a:latin typeface="Arial"/>
              </a:rPr>
              <a:t>ПРЕИМУЩЕСТВА АЦИКЛОВИРА, ВАЛТРЕКСА, ФАМВИРА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влияют на микрофлору кишечника, не вызывают дисбактериоз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зопасны при длительном приём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капливаются только в тех клетках, где размножается виру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четаются с большинством других лекарст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413000"/>
            <a:ext cx="4038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влияют на память, внимание, скорость реак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зопасны при совместном приеме с алкогол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обладает терратогенными и мутагенными эффект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влияют на возможность иметь дет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лучшают качество жиз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3e3ff"/>
                </a:solidFill>
                <a:latin typeface="Arial"/>
              </a:rPr>
              <a:t>ИММУНОМОДУЛЯТОРЫ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40384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уппа препаратов рецептурного отпуска, влияющих на различных звенья иммунитета и в некоторых случаях увеличивающих межрецидивные промежут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Западе не применяются в связи с отсутствием достоверных доказательств их эффективности и безопасност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мер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фер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екари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иоксидо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луд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дигиоз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идост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оферо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-Актив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3e3ff"/>
                </a:solidFill>
                <a:latin typeface="Arial"/>
              </a:rPr>
              <a:t>ГЕКСОЗНЫЕ ГЛИКОЗИДЫ</a:t>
            </a: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карственные средства, препятствующие проникновению вируса в клет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меняется только во время рециди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нави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e3ff"/>
                </a:solidFill>
                <a:latin typeface="Arial"/>
              </a:rPr>
              <a:t>ПЕРВИЧНЫЙ ГЕНИТАЛЬНЫЙ ГЕРПЕС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38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Характеризуется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15b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раженные симпто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15b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ительное теч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15b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ьшая область пораж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Лечение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15b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цикловир 200 мг х 4 р/сутки х 10 дн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15b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алтрекс 500 мг х 2 р/сутки х 10 дн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15b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амвир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250  мг х 3 р/сутки х 5 дн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3e3ff"/>
                </a:solidFill>
                <a:latin typeface="Arial"/>
              </a:rPr>
              <a:t>РЕЦИДИВИРУЮЙ ГЕНИТАЛЬНЫЙ ГЕРПЕС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38480" cy="46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5b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отвращение дальнейшего развития и лечение текущего рецидива генитального герпес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15b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бавление пациента от боли и зуда в области половых органов, снижение количества и выраженности высыпа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Лечени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15b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цикловир 200 мг х 4 р/сутки х 5 дн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15b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алтрекс 500 мг х 2 р/сутки х 5 дн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15b4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амвир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250  мг х 2 р/сутки х 5 дн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18:46:27Z</dcterms:created>
  <dc:creator>Иван Кокоткин</dc:creator>
  <dc:description/>
  <dc:language>en-US</dc:language>
  <cp:lastModifiedBy>Иван Кокоткин</cp:lastModifiedBy>
  <dcterms:modified xsi:type="dcterms:W3CDTF">2003-04-27T07:22:35Z</dcterms:modified>
  <cp:revision>14</cp:revision>
  <dc:subject/>
  <dc:title>Генитальный Герпес и Беременность</dc:title>
</cp:coreProperties>
</file>