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DBF6-7988-491E-8AF3-1C8861F7A3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9480" y="689040"/>
            <a:ext cx="4566960" cy="3425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3840" y="4284360"/>
            <a:ext cx="5252760" cy="3398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ions start with redness of the skin (and possibly swelling) that may be painful and itc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tage is identified by the presence of thin-walled vesicles (blisters) that appear on the surface of the erythematous b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sicles are filled with clear or purulent fluid. The top of these vesicles is very thin and breaks easily, often oozing flu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ape, size, distribution, and duration of the vesicles vary depending on the individual, type of alphaherpesvirus (HSV versus VZV), and type of infection (primary versus recurrent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blisters break open, erosions of the skin and ulcers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9480" y="689040"/>
            <a:ext cx="4566960" cy="3425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6560" y="4284360"/>
            <a:ext cx="5270400" cy="339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lthough genital herpes is most commonly associated with HSV-2 and HSV-1 with herpes labialis, genital herpes caused by HSV-1 is on the rise as a resul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f orogenital s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majority of genital herpes infections are HSV-2 genital infections and sexual transmission is the primary mode of spread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SV-2 genital infections recur more frequently than HSV-1 genital inf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36560" y="8228160"/>
            <a:ext cx="54975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eference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hitley RJ. Herpes simplex viruses. In: Knipe DM, Howley PM, eds. 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Fields Virolog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 Vol 2.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th ed. Philadelphia, Pa: Lippincott Williams &amp; Wilkins; 2001:2461-2509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0920" y="68904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44480" y="4296960"/>
            <a:ext cx="5262480" cy="33958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n above are 3 ways genital herpes can manifest in patients with primary and recurrent episo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cally, patients with primary genital herpes experience severe signs and symptoms, whereas recurrent episodes are less sev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wide variation in the presentation of primary and recurrent symptoms may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8180280"/>
            <a:ext cx="510696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4400" y="8074080"/>
            <a:ext cx="18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marL="341280" indent="-3412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4200" y="8238960"/>
            <a:ext cx="584496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eference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enital Herpes – A Clinician’s Guide to Diagnosis and Treatment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hicago, Ill: American Medical Association; 2001:1-20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F9B3-59AB-42C6-9EE2-1A39A4E9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171-E07D-4F19-A97B-A4EA6F20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52A2-E9C7-488F-B874-18EE6AE4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48CD-65EB-4555-89F9-FB61D6DF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D05E-229B-446C-A999-22EA0D4A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8B75-0548-41B3-BA58-207C1F59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384F-0C4D-4004-AE3E-79BCF5D9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1D5D-C255-4678-B2F7-0A3026B1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0DDD-542F-431B-9F8E-C0DD6B0F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6616-B1CE-4CE5-B40C-2B423473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CB23-D436-4C61-A3EB-0602DFB6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6181-0001-46A2-A62C-0C9D0509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0641-1125-4E34-8F9C-677432C8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1BF6-8B2A-43FC-A0D1-6FCD077B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DF62-CEAE-4124-8888-0597E7CB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A813-7C0D-4333-B75C-3441330E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DFD0-38BA-43D8-892F-4940D18C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9F7F-3AD7-4331-843A-4DD1F4B0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F651-3A47-48D8-9D9A-2E493FB7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41EB-6465-4EE0-B539-D9F7D442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9F5D-C666-432A-80F7-CE05C4D9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AD7F-BBFA-4637-B00A-34F8B895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6CAA-2769-44F3-BD65-C1B22E9F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49AA-E37F-4280-901E-087DF76C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A912-F35D-46F9-9A5D-FF95332DB4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127120" y="6524640"/>
            <a:ext cx="40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02 ГНЦ Институт Иммунолог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D28C-335D-407A-A39A-AF3DE34C40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15120" y="525600"/>
            <a:ext cx="741204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Простой» герпес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Все гениальное- прост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27120" y="6524640"/>
            <a:ext cx="40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02 ГНЦ Институт Иммунолог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33"/>
                </a:solidFill>
                <a:latin typeface="Arial"/>
              </a:rPr>
              <a:t>Биологические особенности герпесвирусов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d"/>
                </a:solidFill>
                <a:latin typeface="Times New Roman"/>
              </a:rPr>
              <a:t>Все герпесвирусы являются внутриклеточными паразит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d"/>
                </a:solidFill>
                <a:latin typeface="Times New Roman"/>
              </a:rPr>
              <a:t>Герпесвирусы многие годы и даже пожизненно персистируют в клетках ганглиев центральной нервной систем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d"/>
                </a:solidFill>
                <a:latin typeface="Times New Roman"/>
              </a:rPr>
              <a:t>В течение жизни человек многократно реинфицируется новыми штаммами герпесвирус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d"/>
                </a:solidFill>
                <a:latin typeface="Times New Roman"/>
              </a:rPr>
              <a:t>В человеческом организме возможно одновременное сосуществование нескольких видов и штаммов вирус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d"/>
                </a:solidFill>
                <a:latin typeface="Times New Roman"/>
              </a:rPr>
              <a:t>Вирусы активизируются при нарушении динамического равновесия между ними и иммунным гомеостазом (сила специфического противогерпетического иммунного ответ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Пути передачи</a:t>
            </a:r>
            <a:br>
              <a:rPr sz="4400"/>
            </a:b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генитального герпес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53960" y="1981080"/>
            <a:ext cx="7159680" cy="390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ffff"/>
                </a:solidFill>
                <a:latin typeface="Times New Roman"/>
              </a:rPr>
              <a:t>Половые контакты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генитальны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орогенитальны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анальны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7732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Особенности клиники 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   первичного простого герпес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7880" y="2057400"/>
            <a:ext cx="7772400" cy="439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острое начало вирусного процес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большое количество высыпаний, занимающих обширную площад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увеличение и болезненность регионарных лимфатических узл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лихорадка до 39-40 ° 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резкое нарастание уровня антител к ВПГ в сыворотке кров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Противовирусные системы защиты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205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Видовой иммунит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205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Неспецифический иммунит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205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Специфический иммунный отв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84240" y="22860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Arial"/>
              </a:rPr>
              <a:t>Цель</a:t>
            </a: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99ff"/>
                </a:solidFill>
                <a:latin typeface="Arial"/>
              </a:rPr>
              <a:t>лабораторной диагности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61960" y="1219320"/>
          <a:ext cx="8136000" cy="5168880"/>
        </p:xfrm>
        <a:graphic>
          <a:graphicData uri="http://schemas.openxmlformats.org/drawingml/2006/table">
            <a:tbl>
              <a:tblPr/>
              <a:tblGrid>
                <a:gridCol w="3939120"/>
                <a:gridCol w="4196880"/>
              </a:tblGrid>
              <a:tr h="272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33"/>
                          </a:solidFill>
                          <a:latin typeface="Times New Roman"/>
                        </a:rPr>
                        <a:t>Определение этиологического факто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33"/>
                          </a:solidFill>
                          <a:latin typeface="Times New Roman"/>
                        </a:rPr>
                        <a:t>Динамическое наблюдение за течением патологического процес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ae3f8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7ae3f8"/>
                          </a:solidFill>
                          <a:latin typeface="Times New Roman"/>
                        </a:rPr>
                        <a:t>Выявление вириона, генома или антигена вирус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ae3f8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7ae3f8"/>
                          </a:solidFill>
                          <a:latin typeface="Times New Roman"/>
                        </a:rPr>
                        <a:t>Выявление вириона, генома или антигена вирус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ae3f8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7ae3f8"/>
                          </a:solidFill>
                          <a:latin typeface="Times New Roman"/>
                        </a:rPr>
                        <a:t>Динамика титров специфических антите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2390760" y="2971800"/>
            <a:ext cx="249120" cy="976320"/>
          </a:xfrm>
          <a:prstGeom prst="downArrow">
            <a:avLst>
              <a:gd name="adj1" fmla="val 50000"/>
              <a:gd name="adj2" fmla="val 9797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3429000"/>
            <a:ext cx="249120" cy="507960"/>
          </a:xfrm>
          <a:prstGeom prst="downArrow">
            <a:avLst>
              <a:gd name="adj1" fmla="val 50000"/>
              <a:gd name="adj2" fmla="val 50975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1160" y="609480"/>
            <a:ext cx="817560" cy="650880"/>
          </a:xfrm>
          <a:custGeom>
            <a:avLst/>
            <a:gdLst>
              <a:gd name="textAreaLeft" fmla="*/ 109440 w 817560"/>
              <a:gd name="textAreaRight" fmla="*/ 708120 w 817560"/>
              <a:gd name="textAreaTop" fmla="*/ 113760 h 650880"/>
              <a:gd name="textAreaBottom" fmla="*/ 471960 h 65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88480" y="533520"/>
            <a:ext cx="811080" cy="672840"/>
          </a:xfrm>
          <a:custGeom>
            <a:avLst/>
            <a:gdLst>
              <a:gd name="textAreaLeft" fmla="*/ 108360 w 811080"/>
              <a:gd name="textAreaRight" fmla="*/ 702720 w 811080"/>
              <a:gd name="textAreaTop" fmla="*/ 117720 h 672840"/>
              <a:gd name="textAreaBottom" fmla="*/ 487800 h 67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9f87a"/>
                </a:solidFill>
                <a:latin typeface="Arial"/>
              </a:rPr>
              <a:t>75 – 90%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взрослого населения являются носителями антител к ВПГ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</a:rPr>
              <a:t>ПЦР</a:t>
            </a: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 – как метод выявления вирусов и вирионов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138040"/>
            <a:ext cx="777240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ямое определение возбудителя – выявление специфических участков ДН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ысокая специфичность – выявление уникального, строго индивидуального фрагмента ДН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ысокая чувствительность – от 10 до 1000 кл. в проб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Универсальное выявление возбудителя – выявление нескольких возбудителей из одной биопроб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ысокая скорость получения анализа – унифицированная обработка биоматериалов и детекция продуктов реак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Клинико-морфологические проявления генитального герпеса (ГГ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22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Первичное инфицирование – без клинических проявл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Первичное инфицирование – с первичным клиническим эпизод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Рецидивирующая форма Г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Атипическая форма Г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Бессимптомное вирусоносительств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Arial"/>
              </a:rPr>
              <a:t>Вариант №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вышение титра антител к ВП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трицательная ПЦ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тсутствие клинических проявл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33"/>
                </a:solidFill>
                <a:latin typeface="Times New Roman"/>
              </a:rPr>
              <a:t>Динамическое наблюд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33"/>
                </a:solidFill>
                <a:latin typeface="Times New Roman"/>
              </a:rPr>
              <a:t>Назначение курса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VIT+</a:t>
            </a:r>
            <a:r>
              <a:rPr b="1" lang="ru-RU" sz="3200" spc="-1" strike="noStrike">
                <a:solidFill>
                  <a:srgbClr val="66ff33"/>
                </a:solidFill>
                <a:latin typeface="Times New Roman"/>
              </a:rPr>
              <a:t>А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3886200"/>
            <a:ext cx="249120" cy="976320"/>
          </a:xfrm>
          <a:prstGeom prst="downArrow">
            <a:avLst>
              <a:gd name="adj1" fmla="val 50000"/>
              <a:gd name="adj2" fmla="val 9797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Arial"/>
              </a:rPr>
              <a:t>Вариант №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196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Повышение титра антител к ВП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Положительная ПЦ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Отсутствие клинических проявл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0720" y="3789360"/>
          <a:ext cx="8042400" cy="3444840"/>
        </p:xfrm>
        <a:graphic>
          <a:graphicData uri="http://schemas.openxmlformats.org/drawingml/2006/table">
            <a:tbl>
              <a:tblPr/>
              <a:tblGrid>
                <a:gridCol w="4120560"/>
                <a:gridCol w="39218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ccff"/>
                          </a:solidFill>
                          <a:latin typeface="Times New Roman"/>
                        </a:rPr>
                        <a:t>Атипичное теч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ba7fb"/>
                          </a:solidFill>
                          <a:latin typeface="Times New Roman"/>
                        </a:rPr>
                        <a:t>Бессимптомное теч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Диагностика и лечение сопутствующей урогенитальной инфек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Динамическое наблюд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Противовирусная терап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VIT + </a:t>
                      </a:r>
                      <a:r>
                        <a:rPr b="1" lang="ru-RU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А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2390760" y="2819520"/>
            <a:ext cx="249120" cy="976320"/>
          </a:xfrm>
          <a:prstGeom prst="downArrow">
            <a:avLst>
              <a:gd name="adj1" fmla="val 50000"/>
              <a:gd name="adj2" fmla="val 9797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48360" y="2819520"/>
            <a:ext cx="249120" cy="976320"/>
          </a:xfrm>
          <a:prstGeom prst="downArrow">
            <a:avLst>
              <a:gd name="adj1" fmla="val 50000"/>
              <a:gd name="adj2" fmla="val 9797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06440" y="1828440"/>
            <a:ext cx="8329680" cy="36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За 1999 год в мире зарегистрировано 86 млн больных генитальным герпес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В России насчитывается 8 млн больных генитальным герпес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Обращаемость к врачам различных специальностей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дерматологам, гинекологам, урологам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составляет не более 15%от реального количества больны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77880" y="304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Распространенность генитального герпес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27120" y="6524640"/>
            <a:ext cx="40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02 ГНЦ Институт Иммунолог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ccff"/>
                </a:solidFill>
                <a:latin typeface="Arial"/>
              </a:rPr>
              <a:t>Вариант №3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Повышение титра антител к ВП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Положительная ПЦ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Клинические проявления 1-2 раза в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Транзиторное ИД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4724280"/>
          <a:ext cx="8821800" cy="1030320"/>
        </p:xfrm>
        <a:graphic>
          <a:graphicData uri="http://schemas.openxmlformats.org/drawingml/2006/table">
            <a:tbl>
              <a:tblPr/>
              <a:tblGrid>
                <a:gridCol w="4535280"/>
                <a:gridCol w="42865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Исключение провоцирующего факто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Противовирус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терап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251080" y="6335640"/>
          <a:ext cx="5041800" cy="522360"/>
        </p:xfrm>
        <a:graphic>
          <a:graphicData uri="http://schemas.openxmlformats.org/drawingml/2006/table">
            <a:tbl>
              <a:tblPr/>
              <a:tblGrid>
                <a:gridCol w="504180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VIT+</a:t>
                      </a:r>
                      <a:r>
                        <a:rPr b="1" lang="ru-RU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АО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447920" y="3581280"/>
            <a:ext cx="245880" cy="1214640"/>
          </a:xfrm>
          <a:custGeom>
            <a:avLst/>
            <a:gdLst>
              <a:gd name="textAreaLeft" fmla="*/ 32760 w 245880"/>
              <a:gd name="textAreaRight" fmla="*/ 213120 w 2458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3581280"/>
            <a:ext cx="277920" cy="1214640"/>
          </a:xfrm>
          <a:custGeom>
            <a:avLst/>
            <a:gdLst>
              <a:gd name="textAreaLeft" fmla="*/ 37080 w 277920"/>
              <a:gd name="textAreaRight" fmla="*/ 240840 w 2779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648320"/>
            <a:ext cx="214560" cy="1550880"/>
          </a:xfrm>
          <a:prstGeom prst="downArrow">
            <a:avLst>
              <a:gd name="adj1" fmla="val 50000"/>
              <a:gd name="adj2" fmla="val 18070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500"/>
                            </p:stCondLst>
                            <p:childTnLst>
                              <p:par>
                                <p:cTn id="2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ccff"/>
                </a:solidFill>
                <a:latin typeface="Arial"/>
              </a:rPr>
              <a:t>Вариант №4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Повышение титра антител к ВП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Положительная ПЦ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Рецидив более 4- 6 раз в г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82480" y="2852640"/>
          <a:ext cx="8177400" cy="3697560"/>
        </p:xfrm>
        <a:graphic>
          <a:graphicData uri="http://schemas.openxmlformats.org/drawingml/2006/table">
            <a:tbl>
              <a:tblPr/>
              <a:tblGrid>
                <a:gridCol w="3590280"/>
                <a:gridCol w="4587120"/>
              </a:tblGrid>
              <a:tr h="17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Транзиторные ИД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Первичное или вторичное ИД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cc"/>
                          </a:solidFill>
                          <a:latin typeface="Times New Roman"/>
                        </a:rPr>
                        <a:t>Оценка противовирусного иммунит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Исключение провоцирующего фак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отивовирусная терап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ff99"/>
                          </a:solidFill>
                          <a:latin typeface="Times New Roman"/>
                        </a:rPr>
                        <a:t>Иммунотерап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ff99"/>
                          </a:solidFill>
                          <a:latin typeface="Times New Roman"/>
                        </a:rPr>
                        <a:t>Противовирусная терап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Times New Roman"/>
                        </a:rPr>
                        <a:t>VIT+</a:t>
                      </a:r>
                      <a:r>
                        <a:rPr b="1" lang="ru-RU" sz="2000" spc="-1" strike="noStrike">
                          <a:solidFill>
                            <a:srgbClr val="ccff99"/>
                          </a:solidFill>
                          <a:latin typeface="Times New Roman"/>
                        </a:rPr>
                        <a:t>А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IT+</a:t>
                      </a: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А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99"/>
                          </a:solidFill>
                          <a:latin typeface="Times New Roman"/>
                        </a:rPr>
                        <a:t>Исключение провоцирующего фак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 flipH="1">
            <a:off x="2244240" y="2565360"/>
            <a:ext cx="1397160" cy="287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1760" y="2565360"/>
            <a:ext cx="1328760" cy="287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33960" y="3284640"/>
            <a:ext cx="0" cy="504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44600" y="3357720"/>
            <a:ext cx="0" cy="1223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7034040" y="4267080"/>
            <a:ext cx="63360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8120" y="3429000"/>
            <a:ext cx="1066680" cy="609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500"/>
                            </p:stCondLst>
                            <p:childTnLst>
                              <p:par>
                                <p:cTn id="3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500"/>
                            </p:stCondLst>
                            <p:childTnLst>
                              <p:par>
                                <p:cTn id="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Эпидемиология</a:t>
            </a:r>
            <a:br>
              <a:rPr sz="4400"/>
            </a:b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генитального герпес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06440" y="2286000"/>
            <a:ext cx="8159760" cy="32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Симптоматический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диагносцированный герпес — 5-2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Нераспознанный атипичного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течения — 6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Бессимптомный герпес — 2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Заболеваемость: 80-200 на 100 ты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Ежегодный прирост заболеваемости — 1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Клинические проявления</a:t>
            </a:r>
            <a:br>
              <a:rPr sz="4000"/>
            </a:b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    первичного простого герпеса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8001000" cy="411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Герпетический  гингивостомати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     </a:t>
            </a: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Первичный  лабиальный  герпе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     </a:t>
            </a: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Первичный  генитальный  герпе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Герпес  борц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     </a:t>
            </a: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Первичный  герпес  кист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     </a:t>
            </a: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Первичный  герпес  новорожденны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   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Этапы клинического развития простого герпес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36400" y="1808280"/>
            <a:ext cx="35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Фаза покраснения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35680" y="3349800"/>
            <a:ext cx="35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узырьковая фа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37120" y="4989600"/>
            <a:ext cx="46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Фаза образования короче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27054" t="0" r="13716" b="35325"/>
          <a:stretch/>
        </p:blipFill>
        <p:spPr>
          <a:xfrm>
            <a:off x="1133640" y="1430280"/>
            <a:ext cx="2033280" cy="1273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17498" t="6250" r="48120" b="59686"/>
          <a:stretch/>
        </p:blipFill>
        <p:spPr>
          <a:xfrm>
            <a:off x="1133640" y="3147840"/>
            <a:ext cx="1982520" cy="1270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7170" t="50204" r="43200" b="1086"/>
          <a:stretch/>
        </p:blipFill>
        <p:spPr>
          <a:xfrm>
            <a:off x="1133640" y="4824360"/>
            <a:ext cx="1982520" cy="1230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39840" y="2801880"/>
            <a:ext cx="0" cy="247680"/>
          </a:xfrm>
          <a:prstGeom prst="line">
            <a:avLst/>
          </a:prstGeom>
          <a:ln w="28440">
            <a:solidFill>
              <a:srgbClr val="fefef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9840" y="4506840"/>
            <a:ext cx="0" cy="247680"/>
          </a:xfrm>
          <a:prstGeom prst="line">
            <a:avLst/>
          </a:prstGeom>
          <a:ln w="28440">
            <a:solidFill>
              <a:srgbClr val="fefef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5160" y="6170760"/>
            <a:ext cx="0" cy="247680"/>
          </a:xfrm>
          <a:prstGeom prst="line">
            <a:avLst/>
          </a:prstGeom>
          <a:ln w="28440">
            <a:solidFill>
              <a:srgbClr val="fefef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8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Генитальный герпес у мужчин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1891" r="0" b="16131"/>
          <a:stretch/>
        </p:blipFill>
        <p:spPr>
          <a:xfrm>
            <a:off x="2700360" y="2054160"/>
            <a:ext cx="374652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9160" y="18576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Генитальный герпес у женщин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3390" t="0" r="3390" b="0"/>
          <a:stretch/>
        </p:blipFill>
        <p:spPr>
          <a:xfrm>
            <a:off x="3476520" y="1919160"/>
            <a:ext cx="209736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0240" y="537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Герпес на губах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168640" y="1900080"/>
            <a:ext cx="4751280" cy="3222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47800" y="58658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77880" y="1295280"/>
            <a:ext cx="799128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00"/>
                </a:solidFill>
                <a:latin typeface="Times New Roman"/>
              </a:rPr>
              <a:t>Простой герпес гениталий – одно из наиболее частых заболеваний, обусловленных ИППП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15:14:15Z</dcterms:created>
  <dc:creator>Шульженко</dc:creator>
  <dc:description/>
  <dc:language>en-US</dc:language>
  <cp:lastModifiedBy>Иван Кокоткин</cp:lastModifiedBy>
  <dcterms:modified xsi:type="dcterms:W3CDTF">2003-04-27T07:30:43Z</dcterms:modified>
  <cp:revision>6</cp:revision>
  <dc:subject/>
  <dc:title>Презентация PowerPoint</dc:title>
</cp:coreProperties>
</file>