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BCC-C724-4F6B-BEB8-583FAE67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038-9510-460F-8175-D16E57DC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DA7-7BCC-44B1-B195-6572F7C3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28C-94CB-4DC2-8DA7-3D0EF6D6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217C-589E-41BE-ACBD-91970199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DE76-7B47-404A-9E9F-06F64B6C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5443-3AF9-477A-963D-8A775FD2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ED0C-8B2D-4DA7-A381-101F48C9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07BC-8C96-4E8B-BDCB-DDB5DCD1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D0BD-1B40-4DFD-B262-92417F9A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E78-CAB9-4149-9713-8A6F9ECA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054-D44B-45B1-B057-BA458212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3C9F-2AD5-4453-AA66-DD073F4E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2D86-BE7B-4E99-B1AA-414B204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38ED-8CBC-420F-8DDC-EF025367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3390-37F4-43B1-9A05-8C77DE8C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1EF4-745D-47CE-81E8-2298F3DB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5B2-BE9A-4668-AF8F-5E96718A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B59-4CBC-462D-A8D2-7C27938D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381-66BA-4C82-BC2F-D5BA20E1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65B-3503-47A6-878F-ACF2BD00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F29-47E9-42DC-A61D-9BFFA42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B09-5614-4755-8F2E-74BAF20E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29F-A47B-423C-842F-B8B175DF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344B-0402-4EC9-AFDB-C75FBEF95FE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931360" y="635652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2002 Иван Кокотки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EB8-62A5-4459-8FCA-393DF174504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1066320"/>
            <a:ext cx="693396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Генитальный Герпес и Беременность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733560"/>
            <a:ext cx="63309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окоткин Иван Юрьеви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рач акушер – гинеколог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ММА им. Сеченова И. 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Кафедра Акушерства и Гинекологии №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1360" y="635652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2002 Иван Кокотки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РАСПРОСТРАНЕННОСТЬ ГЕНИТАЛЬНОГО ГЕРПЕСА В РОССИЙСКОЙ ФЕДЕРАЦИИ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селение России -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145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челове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20%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селения или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29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человек больны генитальным герпесо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6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человек рецидивы бывают несколько раз в год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23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являются бессимптомными носителями генитального герпес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 официальной статистике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россиян страдают генитальным герпес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1360" y="635652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2002 Иван Кокотки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РАЗНОВИДНОСТИ ГЕНИТАЛЬНОГО ГЕРПЕС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236196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ервый в жизни эпизод генитального герп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Рецидивирующий генитальный герпе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епервичный генитальный герпе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181480" y="1996920"/>
            <a:ext cx="3810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ЧАСТОТА НЕОНАТАЛЬНОГО ГЕРПЕС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20570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Частота возникновения неонатального герпеса 0, 02 %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Или 1 случай на 5 000 род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Чтобы увидеть случай неонатального герпеса нужно проработать в акушерстве 40 лет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palata" descr=""/>
          <p:cNvPicPr/>
          <p:nvPr/>
        </p:nvPicPr>
        <p:blipFill>
          <a:blip r:embed="rId1"/>
          <a:stretch/>
        </p:blipFill>
        <p:spPr>
          <a:xfrm>
            <a:off x="1219320" y="2502000"/>
            <a:ext cx="39621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ЕРВИЧНЫЙ ГЕНИТАЛЬНЫЙ ГЕРПЕ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19320" y="1600200"/>
          <a:ext cx="38098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38098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роявления: поражение кожи, хореоретинит и нарушения ЦНС (микро- или гидроцефалия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Риск возникновения повреждений у плода равен 75%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Характерна высокая смертность или инвалидизация детей до 85%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ражения плода при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ервичном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генитальном герпес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0240" y="1676520"/>
            <a:ext cx="2470320" cy="4343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46600" y="1676520"/>
            <a:ext cx="2735280" cy="426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828800" y="6073920"/>
            <a:ext cx="25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Гидроцефа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4400" y="6019920"/>
            <a:ext cx="25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Анэнцефа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РЕЦИДИВИРУЮЩИЙ ГЕНИТАЛЬНЫЙ ГЕРПЕ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 утробе матери заражения плода не происходи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Риск заражения плода в родах составляет от 1 до 4%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перация Кесарева сечения не снижает риск развития неонатального герп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01680" y="1600200"/>
          <a:ext cx="38052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600200"/>
                    <a:ext cx="38052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ОЯВЛЕНИЯ НЕОНАТАЛЬНОГО ГЕРПЕС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Т.к. ребенок защищен антителами матери, течение герпеса доброкачественно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оражения проявляются в виде пузырьковой сыпи на кож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нутриутробного заражения не происходи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herpes_pregnansy" descr="НЕОНАТАЛЬНЫЙ ГЕРПЕС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71600" y="4651200"/>
            <a:ext cx="32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Источник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Герпесвирусные инфекции набор учебных слайд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САНА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 Зудин Б. И. Борисенко К. К. Шарапаренк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М. В. фото Краснощекий, Кузнецов А. Ю. Москва 1998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ВЕДЕНИЕ ВО ВРЕМЯ БЕРЕМЕННОСТИ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сключение орального секса (кунилинг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бязательное использование презервати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Строгое соблюдение правил личной гигиен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Местное лечение высыпаний мазь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condom" descr=""/>
          <p:cNvPicPr/>
          <p:nvPr/>
        </p:nvPicPr>
        <p:blipFill>
          <a:blip r:embed="rId1"/>
          <a:stretch/>
        </p:blipFill>
        <p:spPr>
          <a:xfrm>
            <a:off x="1295280" y="1979640"/>
            <a:ext cx="38102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8:46:27Z</dcterms:created>
  <dc:creator>Иван Кокоткин</dc:creator>
  <dc:description/>
  <dc:language>en-US</dc:language>
  <cp:lastModifiedBy>Иван Кокоткин</cp:lastModifiedBy>
  <dcterms:modified xsi:type="dcterms:W3CDTF">2003-04-27T07:27:30Z</dcterms:modified>
  <cp:revision>7</cp:revision>
  <dc:subject/>
  <dc:title>Генитальный Герпес и Беременность</dc:title>
</cp:coreProperties>
</file>